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18DBFE-0C7F-4D1A-9B18-BA3EEDE26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 data: Euclidean distance among stations based on mean values of log of first 15 mollusc spp.  Top, BP, bottom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80" y="2374920"/>
            <a:ext cx="136044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36800" y="1212840"/>
            <a:ext cx="137808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tri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c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84560" y="365040"/>
            <a:ext cx="26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wage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46680" y="1212840"/>
            <a:ext cx="119052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pe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31880" y="2432160"/>
            <a:ext cx="13683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al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79800" y="2432160"/>
            <a:ext cx="15159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 cal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94400" y="4794120"/>
            <a:ext cx="1368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4200" y="4794120"/>
            <a:ext cx="1476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41720" y="3544920"/>
            <a:ext cx="1263600" cy="787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ing or over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37400" y="2432160"/>
            <a:ext cx="16444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rich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tom sed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3960" y="2325600"/>
            <a:ext cx="167472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und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os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840" y="3594240"/>
            <a:ext cx="166536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or hypox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water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61280" y="4794120"/>
            <a:ext cx="117324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rf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0" y="4813200"/>
            <a:ext cx="142884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all or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83440" y="3498840"/>
            <a:ext cx="17733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66000" y="5937120"/>
            <a:ext cx="19018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st 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762120"/>
            <a:ext cx="190476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76212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800" y="18288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3048120"/>
            <a:ext cx="1295280" cy="1752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048120"/>
            <a:ext cx="5126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61240" y="1793880"/>
            <a:ext cx="36504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82880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62320" y="18288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4280" y="3124080"/>
            <a:ext cx="990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124080"/>
            <a:ext cx="146160" cy="4636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5572080"/>
            <a:ext cx="2880" cy="371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1800" y="4095720"/>
            <a:ext cx="2880" cy="70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76320" y="4114800"/>
            <a:ext cx="14400" cy="67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048120"/>
            <a:ext cx="48420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200" y="1793880"/>
            <a:ext cx="1209600" cy="62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2200" y="4071960"/>
            <a:ext cx="175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4071960"/>
            <a:ext cx="319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0" y="5937120"/>
            <a:ext cx="15159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5627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10080" y="5580000"/>
            <a:ext cx="844560" cy="3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5840" y="66438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55880" y="4813200"/>
            <a:ext cx="133020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79560" y="5956200"/>
            <a:ext cx="146844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562720"/>
            <a:ext cx="468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581280"/>
            <a:ext cx="3049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8080" y="31240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3320" y="3544920"/>
            <a:ext cx="126360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gradation 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6120" y="1136520"/>
            <a:ext cx="139860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33600" y="1523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153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4026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473040" y="2879640"/>
            <a:ext cx="286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monium (ug-at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94040" y="6004080"/>
            <a:ext cx="269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anc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480" y="66294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304920"/>
            <a:ext cx="780264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965240" y="44136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ber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27760" y="441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d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44640" y="310824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xidation-reduction potential (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66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228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4178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244440" y="2681280"/>
            <a:ext cx="316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81080" y="9360"/>
            <a:ext cx="4572000" cy="34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Kimmerer</dc:creator>
  <dc:description>Figures for evaluation sheets</dc:description>
  <dc:language>en-US</dc:language>
  <cp:lastModifiedBy>Preferred Customer</cp:lastModifiedBy>
  <cp:revision>0</cp:revision>
  <dc:subject>Mamala MB10</dc:subject>
  <dc:title>Short figure set</dc:title>
</cp:coreProperties>
</file>