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652-C25F-4F57-A5B5-D22CF258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B99-6E34-474C-84D7-DF9C3B70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E26-4AF2-4EAA-9948-08579B9F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E6F-658C-4167-BCA7-3797D69E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047-6603-475F-903A-AB871E3E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24D-14E4-41F9-918E-11A4180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2BD-111E-4D47-AE88-1BDF030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D8C-B2C4-4511-976B-475D7D8A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0BA-8AC3-4CDA-BB4B-B21D95D5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155-C40B-47D9-BD85-5E4CC51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A31-A9F1-432A-8293-7CFD21A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062-0425-457A-8AD0-6C32875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2187-79EA-48C8-B775-6AFF946A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5486400" cy="426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5400000">
            <a:off x="-1235520" y="2603520"/>
            <a:ext cx="42562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elagic 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Ecosystems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 of  the Tropical Atlantic Oc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5400000">
            <a:off x="3972600" y="2603160"/>
            <a:ext cx="425772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elagic Ecosystems of the Tropical Atlantic Oc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298160" y="-79200"/>
            <a:ext cx="44118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7200" bIns="4572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3960" y="1208160"/>
            <a:ext cx="3823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Rounded MT Bold"/>
              </a:rPr>
              <a:t>Oceanological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Rounded MT Bold"/>
              </a:rPr>
              <a:t>National Academy of Sciences of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Rounded MT Bold"/>
              </a:rPr>
              <a:t>Decemb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7T13:56:16Z</dcterms:created>
  <dc:creator>SfP2</dc:creator>
  <dc:description/>
  <dc:language>en-US</dc:language>
  <cp:lastModifiedBy>DBL</cp:lastModifiedBy>
  <dcterms:modified xsi:type="dcterms:W3CDTF">2003-12-09T07:22:58Z</dcterms:modified>
  <cp:revision>27</cp:revision>
  <dc:subject/>
  <dc:title>PowerPoint Presentation</dc:title>
</cp:coreProperties>
</file>