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10363" cy="9445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84E-46B8-4C31-B60A-FB99A6FA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EF0-21FD-4612-992E-0179C971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034-3366-480E-90B0-DD4632C4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DCD7-7085-4DCC-A418-2EA6083D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341E-9CF2-4AB2-B300-E4831E95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723-E67B-4030-AFBC-3E7495DF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4F8-08B9-4CCB-82CF-E2D9FECA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938-C16C-401B-8D2F-8C350887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694-3126-4672-831C-69C834EE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007E-06CD-4550-AA34-6BC4CB36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FA65-38E8-44CF-9AB5-9566C1AE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1350-4A93-4120-8798-2D12F537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EFE1-C945-4105-ACE7-0BFCF2CE1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29200" y="1295280"/>
            <a:ext cx="4419720" cy="4267440"/>
          </a:xfrm>
          <a:prstGeom prst="rect">
            <a:avLst/>
          </a:prstGeom>
          <a:solidFill>
            <a:srgbClr val="0000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3237"/>
          <a:stretch/>
        </p:blipFill>
        <p:spPr>
          <a:xfrm>
            <a:off x="5029200" y="1266840"/>
            <a:ext cx="4462560" cy="432288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625320" y="1266840"/>
            <a:ext cx="4388040" cy="4295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13716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3240" y="5318280"/>
            <a:ext cx="4375440" cy="244440"/>
          </a:xfrm>
          <a:prstGeom prst="rect">
            <a:avLst/>
          </a:prstGeom>
          <a:solidFill>
            <a:srgbClr val="0057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3240" y="1266840"/>
            <a:ext cx="4375440" cy="274680"/>
          </a:xfrm>
          <a:prstGeom prst="rect">
            <a:avLst/>
          </a:prstGeom>
          <a:solidFill>
            <a:srgbClr val="0057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23960" y="1600200"/>
            <a:ext cx="41893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35920" y="5240160"/>
            <a:ext cx="18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3240" y="5313240"/>
            <a:ext cx="4375440" cy="246240"/>
          </a:xfrm>
          <a:prstGeom prst="rect">
            <a:avLst/>
          </a:prstGeom>
          <a:solidFill>
            <a:srgbClr val="0406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Copyright © 2003, Oceanological Centre of NA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8280" y="1262160"/>
            <a:ext cx="4360680" cy="276480"/>
          </a:xfrm>
          <a:prstGeom prst="rect">
            <a:avLst/>
          </a:prstGeom>
          <a:solidFill>
            <a:srgbClr val="0406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or Windows 95, 98, Me, 200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, X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595520"/>
            <a:ext cx="4038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D-ROM contains the brief inform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ed scientific articles, and full list of Russian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ed with the data for the Tropical Atlantic Oce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, chemical and physic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loaded into the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OceanB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ultidisciplinary oceanographic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expect that the species inventor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the species database, CTD casts and nutr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enable its users to engage a developed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inter-disciplinary comprehensive analy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tropical and subtrop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of the Atlantic Oce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4080" y="4660920"/>
            <a:ext cx="352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To run this 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just insert th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CD-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into the drive.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Run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DEMO_CD.exe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in the ro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folder if drive autorun option is disab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68920" y="1484280"/>
            <a:ext cx="4451400" cy="21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2700"/>
                </a:solidFill>
                <a:latin typeface="Impact"/>
              </a:rPr>
              <a:t>Pelagic </a:t>
            </a:r>
            <a:br>
              <a:rPr sz="3600"/>
            </a:br>
            <a:r>
              <a:rPr b="1" lang="en-US" sz="3600" spc="-1" strike="noStrike">
                <a:solidFill>
                  <a:srgbClr val="ce2700"/>
                </a:solidFill>
                <a:latin typeface="Impact"/>
              </a:rPr>
              <a:t>Eco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2700"/>
                </a:solidFill>
                <a:latin typeface="Impact"/>
              </a:rPr>
              <a:t>of the </a:t>
            </a:r>
            <a:r>
              <a:rPr b="1" lang="en-US" sz="3600" spc="-1" strike="noStrike">
                <a:solidFill>
                  <a:srgbClr val="ba2300"/>
                </a:solidFill>
                <a:latin typeface="Impact"/>
              </a:rPr>
              <a:t>Tropical</a:t>
            </a:r>
            <a:r>
              <a:rPr b="1" lang="en-US" sz="3600" spc="-1" strike="noStrike">
                <a:solidFill>
                  <a:srgbClr val="ce2700"/>
                </a:solidFill>
                <a:latin typeface="Impact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ce2700"/>
                </a:solidFill>
                <a:latin typeface="Impact"/>
              </a:rPr>
              <a:t>Atlantic Oce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91120" y="4600440"/>
            <a:ext cx="24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Impact"/>
              </a:rPr>
              <a:t>Oceanological C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3000" y="4873680"/>
            <a:ext cx="2279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50"/>
                </a:solidFill>
                <a:latin typeface="Impact"/>
              </a:rPr>
              <a:t>National Acade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50"/>
                </a:solidFill>
                <a:latin typeface="Impact"/>
              </a:rPr>
              <a:t>of Sciences of Ukra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7T14:15:01Z</dcterms:created>
  <dc:creator>INTAS INFO 00-059</dc:creator>
  <dc:description/>
  <dc:language>en-US</dc:language>
  <cp:lastModifiedBy>Vladyslav Lyubartsev</cp:lastModifiedBy>
  <cp:lastPrinted>2001-04-11T15:07:04Z</cp:lastPrinted>
  <dcterms:modified xsi:type="dcterms:W3CDTF">2003-12-01T11:46:05Z</dcterms:modified>
  <cp:revision>58</cp:revision>
  <dc:subject>Dissemination of data on plankton  and environmental characteristics</dc:subject>
  <dc:title>PowerPoint Presentation</dc:title>
</cp:coreProperties>
</file>