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035-1FC4-4BE1-BCBF-7B0D0DC3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9C3-AFF7-413B-A02E-0E265DF4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F6D-4F4D-4CBB-802C-8D62DE28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BF8-D3F6-48CF-BEA9-805C4B33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CCE-F64A-45E9-8796-9488A69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5B1-0A64-4E53-A8B5-C5C0404B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F80-1532-4038-9E0F-50C97FB1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42D-85FF-4C19-BA5C-470348CE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D4B-4819-406D-8E19-06B0FD8F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EBE-E88B-4C3B-A657-508C3331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BCC-54D5-4CD1-9F92-E65D92BF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138-EEFB-44EA-8F5F-5948BD2D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8C21-E1A8-4638-A730-557E7ECB8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1150920"/>
            <a:ext cx="4209840" cy="4210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0560" y="1150920"/>
            <a:ext cx="4210200" cy="421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1:34:47Z</dcterms:created>
  <dc:creator>DBL</dc:creator>
  <dc:description/>
  <dc:language>en-US</dc:language>
  <cp:lastModifiedBy>DBL</cp:lastModifiedBy>
  <dcterms:modified xsi:type="dcterms:W3CDTF">2003-12-09T11:35:21Z</dcterms:modified>
  <cp:revision>1</cp:revision>
  <dc:subject/>
  <dc:title>Slide 1</dc:title>
</cp:coreProperties>
</file>