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27825" cy="9717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DB014-2FB6-4139-9B44-C9745D64E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AC1D8-ED8E-4B6B-971F-5FC3D796E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4DE8C-D6B7-49BF-AEE4-F8B6CB950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8357A-4BAC-4CC5-AA3A-606DD20E0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CA3B6-4A77-4845-801A-0CDABA573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009F1-A080-4725-8A90-3CFDDE531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B7D51-F015-4BBD-833F-181124047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DBB35-B164-4400-A13D-574C99238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37733-FEBF-40EA-8706-29885A029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9D7D6-D221-4FA6-BA5A-5FA3DC028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82DDC-57E0-4A34-8045-2E96A4A68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FDF35-B154-41D1-9DCC-FD4909885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2F043-AD38-4013-AECF-D295BAEA63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SOIR01" descr=""/>
          <p:cNvPicPr/>
          <p:nvPr/>
        </p:nvPicPr>
        <p:blipFill>
          <a:blip r:embed="rId1"/>
          <a:stretch/>
        </p:blipFill>
        <p:spPr>
          <a:xfrm>
            <a:off x="152280" y="457200"/>
            <a:ext cx="8763120" cy="58356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752480" y="2057400"/>
            <a:ext cx="6019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600" spc="-1" strike="noStrike">
                <a:solidFill>
                  <a:srgbClr val="ff3300"/>
                </a:solidFill>
                <a:latin typeface="Times New Roman"/>
              </a:rPr>
              <a:t>SOIRE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25T21:32:16Z</dcterms:created>
  <dc:creator>Rob Murdoch</dc:creator>
  <dc:description/>
  <dc:language>en-US</dc:language>
  <cp:lastModifiedBy>Rob Murdoch</cp:lastModifiedBy>
  <cp:lastPrinted>1999-08-26T07:31:00Z</cp:lastPrinted>
  <dcterms:modified xsi:type="dcterms:W3CDTF">1999-08-26T07:43:56Z</dcterms:modified>
  <cp:revision>4</cp:revision>
  <dc:subject/>
  <dc:title>No Slide Title</dc:title>
</cp:coreProperties>
</file>