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CF51-DF6F-4B07-B36C-D4D7C009B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4B59-1007-4216-BCD0-4877D7B2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68CF-64B3-4DEB-98E6-905EB1AC6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B7FF-90A8-403A-AA0B-EC3E4CCE6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4975-F331-43A0-8A4B-1200445F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B58C-ADDF-4C0E-8AA9-5F4950BA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AB9D-168E-4A9B-AF55-4EE85521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0E3E-FE5F-4218-A13D-2D45A857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E078-B497-4235-8FCB-C1493787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7E5F-9CC3-4E2B-A059-451DADDF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500D-8DC1-4E74-B3F0-F74F46DD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0F83-BB58-4BAB-982F-DCEEEF0B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C324-500C-4D46-BADB-05CCA70A5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OIR01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763120" cy="5835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43000" y="2057400"/>
            <a:ext cx="6629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0" spc="-1" strike="noStrike">
                <a:solidFill>
                  <a:srgbClr val="00cc99"/>
                </a:solidFill>
                <a:latin typeface="Benguiat Bk BT"/>
              </a:rPr>
              <a:t>SOIREE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5T21:32:16Z</dcterms:created>
  <dc:creator>Rob Murdoch</dc:creator>
  <dc:description/>
  <dc:language>en-US</dc:language>
  <cp:lastModifiedBy>Dorothee Bakker</cp:lastModifiedBy>
  <cp:lastPrinted>1999-08-26T07:31:00Z</cp:lastPrinted>
  <dcterms:modified xsi:type="dcterms:W3CDTF">1999-08-26T09:28:34Z</dcterms:modified>
  <cp:revision>6</cp:revision>
  <dc:subject/>
  <dc:title>No Slide Title</dc:title>
</cp:coreProperties>
</file>