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378-596A-4ED2-AECB-D34D055B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60B-1DBA-4888-8739-51C6118B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C59-F2D3-4E5C-9927-49812E78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6A9-3F98-44BB-9811-6BEBB213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8FD-83B3-4B25-8904-581591A1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B18-CDF7-45FB-920B-9DC2AA73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98A-CB8E-4D10-BD7B-3B3655CA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1DA-CDE1-4976-B855-12DD3A8B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798-DFEF-4137-B256-F038F400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8DB-63BA-4A22-A84A-A4252ED6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B82-8DFB-4234-BD82-824952EC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9C6-CF14-4725-9DC3-DA838A57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7FC7-5460-49C7-8545-12731F6E6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w CT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ssissippi Canyon 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/V Brooks-Mc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05/19/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B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686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4236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B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6610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4523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644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4266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15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945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092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4847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0:28:34Z</dcterms:created>
  <dc:creator>benjamin.shorr</dc:creator>
  <dc:description/>
  <dc:language>en-US</dc:language>
  <cp:lastModifiedBy>Sam.Tormey</cp:lastModifiedBy>
  <dcterms:modified xsi:type="dcterms:W3CDTF">2010-05-20T00:40:51Z</dcterms:modified>
  <cp:revision>38</cp:revision>
  <dc:subject/>
  <dc:title>Raw CTD data</dc:title>
</cp:coreProperties>
</file>