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1285-8982-4CB8-8639-64E353908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A0AD-AA85-4463-B8EE-83274A2F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C8B5-3D88-4C6A-A7B4-ABBAE6F7F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23DF-3D16-4B4C-A44E-4107D51F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5031-21F9-41EE-BBBC-28F312F5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9ED3-DAE0-49D1-8900-109B0766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BEC1-8FA7-4A77-BE77-22D5EFA3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AABF-8BD0-4171-A531-28600FE4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EAFA-B29B-4DCF-A6EF-0BD64D9C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847C-82A1-414C-9376-CEB2F9E9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FD04-01B6-4D6F-9698-8843605F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96A2-BC29-401F-9901-91DF327F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7C18-C1C3-4730-82AF-43842ACD54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w CTD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ississippi Canyon 25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/V Brooks-McC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05/20/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B3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5943600" y="3855960"/>
            <a:ext cx="1752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20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15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3944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B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5820120" y="3855960"/>
            <a:ext cx="20048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20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288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3803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B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5943600" y="3855960"/>
            <a:ext cx="1752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20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32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3767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B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5943600" y="3855960"/>
            <a:ext cx="1752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20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295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3663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0:28:34Z</dcterms:created>
  <dc:creator>benjamin.shorr</dc:creator>
  <dc:description/>
  <dc:language>en-US</dc:language>
  <cp:lastModifiedBy>Sam.Tormey</cp:lastModifiedBy>
  <dcterms:modified xsi:type="dcterms:W3CDTF">2010-05-21T00:18:50Z</dcterms:modified>
  <cp:revision>67</cp:revision>
  <dc:subject/>
  <dc:title>Raw CTD data</dc:title>
</cp:coreProperties>
</file>