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9764-8234-47B3-B019-1E9D9BD3C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2AE0-A70B-482E-8A70-126005CE7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7BD5-FC24-47FD-A0A9-2077A9923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0B4E-E0D4-4E55-8F00-5E7C8A1CB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8802-DED5-48CA-8FAD-A4617986D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BAA9-FAE0-4921-B1CC-A5359A105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0317-4821-4545-906E-CE150CD99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56CF-4D66-4B64-A576-799A9CED2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3833-8BC3-4E5D-99AA-697DEED77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C834-3A6D-457B-B824-BD8B2EE20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515E-691D-418C-8B73-F02A1E730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1117-9AD6-4122-B2B1-5295FB302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1B2B7-E308-44C4-953F-3E75957B8E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aw CTD d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ississippi Canyon 25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R/V Brooks-McCa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05/21/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B3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691320"/>
          </a:xfrm>
          <a:prstGeom prst="rect">
            <a:avLst/>
          </a:prstGeom>
          <a:ln w="0">
            <a:noFill/>
          </a:ln>
        </p:spPr>
      </p:pic>
      <p:sp>
        <p:nvSpPr>
          <p:cNvPr id="44" name="TextBox 3"/>
          <p:cNvSpPr/>
          <p:nvPr/>
        </p:nvSpPr>
        <p:spPr>
          <a:xfrm>
            <a:off x="5943600" y="3855960"/>
            <a:ext cx="1752480" cy="1739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TD Raw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tation B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05/21/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Lat: 28.7320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Long: -88.3767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B3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691320"/>
          </a:xfrm>
          <a:prstGeom prst="rect">
            <a:avLst/>
          </a:prstGeom>
          <a:ln w="0">
            <a:noFill/>
          </a:ln>
        </p:spPr>
      </p:pic>
      <p:sp>
        <p:nvSpPr>
          <p:cNvPr id="46" name="TextBox 3"/>
          <p:cNvSpPr/>
          <p:nvPr/>
        </p:nvSpPr>
        <p:spPr>
          <a:xfrm>
            <a:off x="5820120" y="3855960"/>
            <a:ext cx="2004840" cy="1465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TD Raw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tation B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05/21/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Lat: 28.7387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Long: -88.3511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B4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691320"/>
          </a:xfrm>
          <a:prstGeom prst="rect">
            <a:avLst/>
          </a:prstGeom>
          <a:ln w="0">
            <a:noFill/>
          </a:ln>
        </p:spPr>
      </p:pic>
      <p:sp>
        <p:nvSpPr>
          <p:cNvPr id="48" name="TextBox 3"/>
          <p:cNvSpPr/>
          <p:nvPr/>
        </p:nvSpPr>
        <p:spPr>
          <a:xfrm>
            <a:off x="5820120" y="3855960"/>
            <a:ext cx="2004840" cy="1465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TD Raw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tation B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05/21/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Lat: 28.752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Long: -88.36677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B4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691320"/>
          </a:xfrm>
          <a:prstGeom prst="rect">
            <a:avLst/>
          </a:prstGeom>
          <a:ln w="0">
            <a:noFill/>
          </a:ln>
        </p:spPr>
      </p:pic>
      <p:sp>
        <p:nvSpPr>
          <p:cNvPr id="50" name="TextBox 3"/>
          <p:cNvSpPr/>
          <p:nvPr/>
        </p:nvSpPr>
        <p:spPr>
          <a:xfrm>
            <a:off x="5943600" y="3855960"/>
            <a:ext cx="1905120" cy="1465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TD Raw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tation B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05/21/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Lat: 28.7383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Long: -88.386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00:28:34Z</dcterms:created>
  <dc:creator>benjamin.shorr</dc:creator>
  <dc:description/>
  <dc:language>en-US</dc:language>
  <cp:lastModifiedBy>Sam.Tormey</cp:lastModifiedBy>
  <dcterms:modified xsi:type="dcterms:W3CDTF">2010-05-22T12:50:08Z</dcterms:modified>
  <cp:revision>100</cp:revision>
  <dc:subject/>
  <dc:title>Raw CTD data</dc:title>
</cp:coreProperties>
</file>