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4F1-7CC5-456F-B00E-8AF1A691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36B-79EE-4C85-B35A-B96EDF63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6BF-175D-4472-ACD0-4996FBA2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FEE-9C46-4C31-85CB-34282A77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BBC-DF85-4EA9-9E75-F94893DC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9EC-408D-4D5F-8460-C723B0DC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FE0-D047-4595-9846-280A4874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350-FEF5-4E2E-8299-E4A32DFB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241-F1AF-4E10-B268-98C8776A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474-6D9B-4AEC-8161-F7DD4B1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DE8-36A3-47AC-A358-D37A693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41F-00EB-4D2F-B309-6535CDF8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B5C2-7BF6-4F5F-8D5C-CFC670B4A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Time Series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15/10 – 05/2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B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943600" y="3855960"/>
            <a:ext cx="19051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5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1T16:38:31Z</dcterms:modified>
  <cp:revision>72</cp:revision>
  <dc:subject/>
  <dc:title>Raw CTD data</dc:title>
</cp:coreProperties>
</file>