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B60-3483-479C-B56C-BBD7C253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A0C-559E-482B-AF46-E82BB35B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521-CE62-4D7D-9F06-B953ACB1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BB6-5CDC-4AB3-A600-DC2B6AA6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1E8-C505-45C8-8C5C-233138EE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7DC-CE5D-414A-9D36-09E3293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0EB-E457-491D-ABA4-1B5E0954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548-4B9A-4F00-8AE2-F3E0A294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609-461B-4D56-BC81-2B8E0D64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EA4-1681-425B-B615-A028DA2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DA6-9CFB-4F02-89FF-97DA58B5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BEC-B68E-4196-B338-FFCFCCDE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74B3-9AAC-4EA6-A6C6-78AB83624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20.jpg"/>
          <p:cNvPicPr/>
          <p:nvPr/>
        </p:nvPicPr>
        <p:blipFill>
          <a:blip r:embed="rId1"/>
          <a:stretch/>
        </p:blipFill>
        <p:spPr>
          <a:xfrm>
            <a:off x="2666880" y="228600"/>
            <a:ext cx="3880080" cy="2840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B21.jpg"/>
          <p:cNvPicPr/>
          <p:nvPr/>
        </p:nvPicPr>
        <p:blipFill>
          <a:blip r:embed="rId2"/>
          <a:stretch/>
        </p:blipFill>
        <p:spPr>
          <a:xfrm>
            <a:off x="2666880" y="3174840"/>
            <a:ext cx="3886200" cy="284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26.jpg"/>
          <p:cNvPicPr/>
          <p:nvPr/>
        </p:nvPicPr>
        <p:blipFill>
          <a:blip r:embed="rId3"/>
          <a:stretch/>
        </p:blipFill>
        <p:spPr>
          <a:xfrm>
            <a:off x="2666880" y="6095880"/>
            <a:ext cx="3886200" cy="2845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533520" y="12193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15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33520" y="7315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17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533520" y="4114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16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B36.jpg"/>
          <p:cNvPicPr/>
          <p:nvPr/>
        </p:nvPicPr>
        <p:blipFill>
          <a:blip r:embed="rId1"/>
          <a:stretch/>
        </p:blipFill>
        <p:spPr>
          <a:xfrm>
            <a:off x="2666880" y="228600"/>
            <a:ext cx="3886200" cy="28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B38.jpg"/>
          <p:cNvPicPr/>
          <p:nvPr/>
        </p:nvPicPr>
        <p:blipFill>
          <a:blip r:embed="rId2"/>
          <a:stretch/>
        </p:blipFill>
        <p:spPr>
          <a:xfrm>
            <a:off x="2666880" y="3176640"/>
            <a:ext cx="3884760" cy="2843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533520" y="12952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20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533520" y="41911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21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00:42Z</dcterms:created>
  <dc:creator>Sam.Tormey</dc:creator>
  <dc:description/>
  <dc:language>en-US</dc:language>
  <cp:lastModifiedBy>Sam.Tormey</cp:lastModifiedBy>
  <dcterms:modified xsi:type="dcterms:W3CDTF">2010-05-21T16:38:26Z</dcterms:modified>
  <cp:revision>5</cp:revision>
  <dc:subject/>
  <dc:title>Slide 1</dc:title>
</cp:coreProperties>
</file>