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D011-B13A-4DC6-9683-C6C1EBB59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BD88-7689-4C6F-B6D2-8F82F7D93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03D4-E1B4-47D6-93FD-F5EA7E17D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6839-B83D-4D27-A763-4BBA4ECAB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49A-ADA9-4899-86CF-D5EE7F11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1A1-29A4-434E-9720-C12F77DA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8AB-CB44-4912-8B1C-53F9EB91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0E4-9262-4512-B364-8EC221B1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749-4687-46C7-A598-81330D7B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1D7-E3B0-4486-A97F-F4088D26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4B1-5F3E-44A0-A5FC-E5A7FA17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4D6-4224-499D-AA15-F6535B75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246-0429-4714-83D5-12C329EB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A76-3D2D-4689-AD41-33FE8F8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16B-8450-49D3-9BFD-2F13C0BE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501-D548-484C-8FBC-7544E852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F46C-1AF6-4605-B118-75F764C89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BP-TN05-SS08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22 Long: -88.11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P-TN05-SS07.jpg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47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00800" y="388620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2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1105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BP-TN05-SS09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78 Long: -88.110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8T00:51:06Z</dcterms:modified>
  <cp:revision>4</cp:revision>
  <dc:subject/>
  <dc:title>Slide 1</dc:title>
</cp:coreProperties>
</file>