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C7C11-D602-4825-9318-09E41D121C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F5FE9-0DC9-4EDD-A0D4-C80E6EEF2B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BF36-9C4E-4C7A-A610-3E51D8239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403C-7026-46E0-B633-D56483841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97FE-9D61-449B-BE52-1D3DA8864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6F72-0C4B-42D4-B19B-1C573D339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5499-0DDF-4B2C-B216-0C35781B2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1A4D-9A7A-4A3D-ABF5-87942DAA0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3925-2BEE-4F76-9A3C-3C0FE1060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6CE3-985C-4E85-ADF2-43A6C0D07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900B-3C2D-4E93-8320-F038747C0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4DCB-6CF8-4ADE-8396-123CEEA8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BB99-1246-41F4-B474-51886957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4340-3F87-4574-8184-60F3379B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4F22A-7910-4E27-8776-69997D5FCF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BP-TN05-SS10.jpg"/>
          <p:cNvPicPr/>
          <p:nvPr/>
        </p:nvPicPr>
        <p:blipFill>
          <a:blip r:embed="rId1"/>
          <a:stretch/>
        </p:blipFill>
        <p:spPr>
          <a:xfrm>
            <a:off x="380880" y="685800"/>
            <a:ext cx="8418600" cy="550404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6477120" y="3656160"/>
            <a:ext cx="2057400" cy="20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ion: BP-TN05-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7/28/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t: 28.570242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ng: -88.322442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7T00:05:14Z</dcterms:created>
  <dc:creator>Kaitlyn Summers</dc:creator>
  <dc:description/>
  <dc:language>en-US</dc:language>
  <cp:lastModifiedBy>Kaitlyn Summers</cp:lastModifiedBy>
  <dcterms:modified xsi:type="dcterms:W3CDTF">2010-07-29T01:43:32Z</dcterms:modified>
  <cp:revision>2</cp:revision>
  <dc:subject/>
  <dc:title>Slide 1</dc:title>
</cp:coreProperties>
</file>