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147D-AB0B-424E-AFAB-03C5E3610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8531-B668-46E3-B60C-A15480410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E7E-73DB-4DCF-A2E8-33EE1701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17B-2444-4599-86B3-D925AC2C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9F92-DEC7-4E28-9FBD-FBC8A855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E587-90F4-4FB6-BBAA-784FEF57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2D0-69F5-4085-A3CD-D35374D8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4F9B-AEA0-4A5B-B74E-4598FCBB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4345-3946-433A-8CA8-C88AF7B7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E615-B7B2-4EE5-A12B-3D14CE00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E8F8-EB64-4387-976C-12BCEAD9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8AAD-A9B3-4CA8-B03D-E542319D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337A-D221-49F7-960C-5D4197E3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03BE-3AD9-47F7-B3B3-64186A6E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41FB-CAC9-49DC-ACC4-40A0ADD85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P-TN06-SS02_CTD.bmp"/>
          <p:cNvPicPr/>
          <p:nvPr/>
        </p:nvPicPr>
        <p:blipFill>
          <a:blip r:embed="rId1"/>
          <a:stretch/>
        </p:blipFill>
        <p:spPr>
          <a:xfrm>
            <a:off x="457200" y="692280"/>
            <a:ext cx="8389800" cy="50227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347508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6-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9.2871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8.71418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7-29T22:30:11Z</dcterms:modified>
  <cp:revision>3</cp:revision>
  <dc:subject/>
  <dc:title>Slide 1</dc:title>
</cp:coreProperties>
</file>