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C1BF-8CEA-45CB-93DD-A20623FD2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6EEF-F0F1-4B14-B92F-B6CCD3210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D8D8-AE37-4848-8E36-987404038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C281-44A9-4D82-9967-A1FBBFD1D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BB8-CC8F-4235-8A6B-0EB73D38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A98-B874-4E66-AA9F-8D2DF8B0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78A-3F03-48C9-92CA-96DE4B9F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8E2-2DD9-4A09-B5C5-F0BD25BE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CFE-A080-4BC9-AA4A-E001D766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076-DCEF-4B1A-B2A1-A7DD968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FB5-63FF-4140-8ED9-FFD04C07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D71-4F31-4D2C-9EEA-D0CD2AED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245-B8A1-49AD-B425-8225F368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665-0D90-4E1B-AE9D-D5CC6B30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965-8A8F-47F1-AF92-DBA94BF8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F96-DF21-40E4-AE50-E95370D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CE8F-4CC8-4D2E-A5F4-31E0A84CA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BP-TN05-SS08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22 Long: -88.11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P-TN05-SS07.jpg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47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00800" y="388620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2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1105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BP-TN05-SS09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78 Long: -88.110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8T00:51:06Z</dcterms:modified>
  <cp:revision>4</cp:revision>
  <dc:subject/>
  <dc:title>Slide 1</dc:title>
</cp:coreProperties>
</file>