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1E37-A7F1-4A0B-BBE0-6FB112C5E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5B7-7F18-4DC2-8C52-A11D7444A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CDA-4D8A-4713-BD2E-0682EF63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7A0-B9C8-4F1A-BE74-624A3C8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4FA-4CF4-44A0-8593-F74AB993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AFC-492C-4F10-AF74-3E1FD295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5C8-AFFB-4427-9356-6EA2C13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D60-D52C-4663-B5D9-B92B4793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498-F35D-48B7-B14F-0EC6AB8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B56-F252-4A56-9768-8AA79C9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5AE-9448-4666-BA9F-A491B2F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F7E-E714-4EBD-9F65-B80B5620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9E0-3930-4DC1-B7C6-97DAE4E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E3A-7494-4A53-A0F1-537E046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DFAA-98D4-46CC-9C20-51DAD9B60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P-TN05-SS10.jpg"/>
          <p:cNvPicPr/>
          <p:nvPr/>
        </p:nvPicPr>
        <p:blipFill>
          <a:blip r:embed="rId1"/>
          <a:stretch/>
        </p:blipFill>
        <p:spPr>
          <a:xfrm>
            <a:off x="380880" y="685800"/>
            <a:ext cx="8418600" cy="550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656160"/>
            <a:ext cx="2057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5702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3224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01:43:32Z</dcterms:modified>
  <cp:revision>2</cp:revision>
  <dc:subject/>
  <dc:title>Slide 1</dc:title>
</cp:coreProperties>
</file>