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DA0B-C2A9-4727-8B6E-BC884050A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9AAC-6933-4F91-A416-E338FFA8B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5CB-12D0-42C1-B115-59DA64AD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ED4-5627-40FA-A3D7-B747911B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AB4-DA55-4DCE-A8E1-8505D7C4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BF8-0B9A-427A-B7ED-48E8B795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09C-7E89-4039-9200-8D073371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BF1-1E42-44F7-8F93-061D6C7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33F-2DDD-46CC-B43B-E3B80AE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FA-2FC4-4B36-B280-04479A5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2F9-E50A-4FF1-9531-FC92FA4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B6C-1820-4B1E-91B2-C5FE5165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917-AF11-4090-B08B-AAA3AFF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E03-62FF-45FD-B24E-69D93EC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643D-20A8-46AD-AE4F-A14C532FB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06-SS02_CTD.bmp"/>
          <p:cNvPicPr/>
          <p:nvPr/>
        </p:nvPicPr>
        <p:blipFill>
          <a:blip r:embed="rId1"/>
          <a:stretch/>
        </p:blipFill>
        <p:spPr>
          <a:xfrm>
            <a:off x="457200" y="692280"/>
            <a:ext cx="838980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47508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6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9.287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714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22:30:11Z</dcterms:modified>
  <cp:revision>3</cp:revision>
  <dc:subject/>
  <dc:title>Slide 1</dc:title>
</cp:coreProperties>
</file>