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CA77-9B2B-4899-9EED-6147F9EC1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1222-2A22-4A77-BF2C-1C661369C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FA76-CF5E-4C50-B8D3-3FE14432E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B5FD-B00D-4DB3-8109-7029D44A8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5ED5-CFA0-4D7B-818D-230EB396A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632F-9BCF-49B4-90C3-99C5C35EE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8336-DE94-45E3-9165-ED641F1EA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2EC3-97C7-4C4C-A134-9A916FC7E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7227-CBB5-48C3-8BE3-2ABB95DD3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A7D9-C910-4A6D-81E4-5224C97A4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3240-7C10-4DC9-8500-EF88BB17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64B0-D72E-4B73-8D5F-55D87FA99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217D8-8FE3-4C6C-A343-40E38DA0AF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ontent Placeholder 3" descr="BP-TN09-SS01.jpg"/>
          <p:cNvPicPr/>
          <p:nvPr/>
        </p:nvPicPr>
        <p:blipFill>
          <a:blip r:embed="rId1"/>
          <a:stretch/>
        </p:blipFill>
        <p:spPr>
          <a:xfrm>
            <a:off x="533520" y="609480"/>
            <a:ext cx="8234280" cy="538344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5"/>
          <p:cNvSpPr/>
          <p:nvPr/>
        </p:nvSpPr>
        <p:spPr>
          <a:xfrm>
            <a:off x="5867280" y="3733920"/>
            <a:ext cx="2590920" cy="146556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TD Raw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ion: BP-TN09-SS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8/04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t: 28.15424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ng: -88.85511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3" descr="BP-TN09-SS02.jpg"/>
          <p:cNvPicPr/>
          <p:nvPr/>
        </p:nvPicPr>
        <p:blipFill>
          <a:blip r:embed="rId1"/>
          <a:stretch/>
        </p:blipFill>
        <p:spPr>
          <a:xfrm>
            <a:off x="533520" y="522360"/>
            <a:ext cx="8254800" cy="55735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5715000" y="3733920"/>
            <a:ext cx="2743200" cy="146556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TD Raw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ion: BP-TN09-SS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8/04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t: 28.10891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ng: -88.8866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3T01:56:10Z</dcterms:created>
  <dc:creator>CSS</dc:creator>
  <dc:description/>
  <dc:language>en-US</dc:language>
  <cp:lastModifiedBy>Admin4</cp:lastModifiedBy>
  <dcterms:modified xsi:type="dcterms:W3CDTF">2010-08-05T00:59:31Z</dcterms:modified>
  <cp:revision>8</cp:revision>
  <dc:subject/>
  <dc:title>Slide 1</dc:title>
</cp:coreProperties>
</file>