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0752-E447-4CD1-9AF7-58E54693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5F1-2151-45F5-BAC8-961D500F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802-4C77-4EA7-9208-98C2CBDA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55E-23EC-44D1-AAC7-7B8BDEE26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450-F4F0-4E2D-819B-57DA9511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E90-B27D-429B-96B0-D9F68A5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88E8-9DFA-4CE5-BB79-D338BB1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235-FDD4-4722-9DC2-BCCF6AC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009-895F-4CBA-A234-24A864D7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6C2-E907-44BE-AF8F-B809E1B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85C-15BB-4192-934C-D4243E7E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D87-E718-4C1F-B83E-1BA897E8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154C-34F0-4E45-A11B-79DC500D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20574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Times New Roman"/>
              </a:rPr>
              <a:t>SOIR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Rob Murdoch</cp:lastModifiedBy>
  <cp:lastPrinted>1999-08-26T07:31:00Z</cp:lastPrinted>
  <dcterms:modified xsi:type="dcterms:W3CDTF">1999-08-26T07:43:56Z</dcterms:modified>
  <cp:revision>4</cp:revision>
  <dc:subject/>
  <dc:title>No Slide Title</dc:title>
</cp:coreProperties>
</file>