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116-1DDA-458B-B6EC-859A1687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F53-3114-4350-AE5E-D52FA92E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C1-4B86-4E9B-B550-23FE7D0D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42A-CCA6-4383-B8AD-9E9BDEBA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67D-47D0-4163-A2C4-374D915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B40-6F8A-4366-B52D-968E701C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2BE-B6D2-49F8-8ED0-173D292C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2D23-1947-4016-BD04-EB88FAF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5D1-5ECC-460A-87FA-8E9EC69D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9384-FA8A-48EA-B315-2928D39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6B9-8462-4EB4-A225-DF76F40E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596-2E88-436F-9B51-A856E35B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808E-1A59-43D3-948E-5E7916F4A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0574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cc99"/>
                </a:solidFill>
                <a:latin typeface="Benguiat Bk BT"/>
              </a:rPr>
              <a:t>SOIRE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Dorothee Bakker</cp:lastModifiedBy>
  <cp:lastPrinted>1999-08-26T07:31:00Z</cp:lastPrinted>
  <dcterms:modified xsi:type="dcterms:W3CDTF">1999-08-26T09:28:34Z</dcterms:modified>
  <cp:revision>6</cp:revision>
  <dc:subject/>
  <dc:title>No Slide Title</dc:title>
</cp:coreProperties>
</file>