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9F3-26AB-46CB-8A46-D15DF024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48A-020B-484D-B7A1-29CF6DEC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92D-90BC-44FD-AD9C-FEAB83A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3D94-C29E-4BC0-B153-1254DB71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CDE-E76F-41C1-A249-26AE336C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86C-639D-4D80-8333-4498BD41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452-C293-47ED-8998-284BDE36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8AF-02B6-4AA1-ABCC-FB3679A4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3B5C-BE8D-479C-A492-A2E26761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101B-D8BD-4304-9D9D-3A8B85C1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AFD-1FAC-4170-A849-CEE79D9E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C17-5F47-4FC0-8742-56DA21A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672E-D421-4AB4-B779-5B489D6F4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52480" y="205740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3300"/>
                </a:solidFill>
                <a:latin typeface="Times New Roman"/>
              </a:rPr>
              <a:t>SOIRE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Rob Murdoch</cp:lastModifiedBy>
  <cp:lastPrinted>1999-08-26T07:31:00Z</cp:lastPrinted>
  <dcterms:modified xsi:type="dcterms:W3CDTF">1999-08-26T07:43:56Z</dcterms:modified>
  <cp:revision>4</cp:revision>
  <dc:subject/>
  <dc:title>No Slide Title</dc:title>
</cp:coreProperties>
</file>