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F7FA-EA42-4E86-8807-87C7DD07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6CD-BA0F-4EF5-92FC-8E810C26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CB7B-48D2-4038-9D2F-8E058CA6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6A67-C30C-4A08-9D87-D500EFBB5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2F4-9E6F-4F21-BBE1-94E45B07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E8F-EE6F-4507-827A-E382216A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AAD-274D-485B-B660-3AA46592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11DD-91AD-4589-BAC8-C054559E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448-3573-4297-95FD-B58185C5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CF2-3EBC-45AE-83A7-4292463C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5AB-5AF1-4A52-B4E6-926AB22C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C13-D041-4CFC-8BD7-E64D72BD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057-5394-4813-BC06-693084227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OIR01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835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43000" y="205740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0" spc="-1" strike="noStrike">
                <a:solidFill>
                  <a:srgbClr val="00cc99"/>
                </a:solidFill>
                <a:latin typeface="Benguiat Bk BT"/>
              </a:rPr>
              <a:t>SOIREE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5T21:32:16Z</dcterms:created>
  <dc:creator>Rob Murdoch</dc:creator>
  <dc:description/>
  <dc:language>en-US</dc:language>
  <cp:lastModifiedBy>Dorothee Bakker</cp:lastModifiedBy>
  <cp:lastPrinted>1999-08-26T07:31:00Z</cp:lastPrinted>
  <dcterms:modified xsi:type="dcterms:W3CDTF">1999-08-26T09:28:34Z</dcterms:modified>
  <cp:revision>6</cp:revision>
  <dc:subject/>
  <dc:title>No Slide Title</dc:title>
</cp:coreProperties>
</file>