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5142-E514-4730-968B-8E48151C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8A3E-4C40-45D1-A464-5476FB8D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EA74-EC02-4561-BBE2-124400397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E23B-FFAD-436C-BAD9-30D541CED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CF49-8A9B-42C2-A89B-771DAAFC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2B93-EB89-4393-9442-EDF2AC2B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76DA-4641-43BA-864C-320A2409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4D2F-B3FF-4120-8567-61FB152F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1090-C74C-4330-BB59-96EEC1DE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AD87-522D-4AD5-8187-6C785F53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BE34-58A6-48F6-A8C8-B651962D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2F5E-75AA-4A9F-9CD6-1892F3E5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1FE2-C61C-4BF6-A1EA-0433C3F1D1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w CTD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ississippi Canyon 25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/V Brooks-McC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05/19/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B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5943600" y="3855960"/>
            <a:ext cx="17524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19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6869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4236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B3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5820120" y="3855960"/>
            <a:ext cx="200484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19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6610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4523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B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5943600" y="3855960"/>
            <a:ext cx="17524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19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644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4266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B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5943600" y="3855960"/>
            <a:ext cx="17524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19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7159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3945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B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5943600" y="3855960"/>
            <a:ext cx="17524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19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7092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4847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0:28:34Z</dcterms:created>
  <dc:creator>benjamin.shorr</dc:creator>
  <dc:description/>
  <dc:language>en-US</dc:language>
  <cp:lastModifiedBy>Sam.Tormey</cp:lastModifiedBy>
  <dcterms:modified xsi:type="dcterms:W3CDTF">2010-05-20T00:40:51Z</dcterms:modified>
  <cp:revision>38</cp:revision>
  <dc:subject/>
  <dc:title>Raw CTD data</dc:title>
</cp:coreProperties>
</file>