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6CC-A2FC-409E-A42E-855481D6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C2C-35E8-4705-A811-570C789D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1E4-E748-4612-AC8D-DD13BD13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958C-6D59-43C9-9E97-0ABE3F1B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FC5-7316-44A3-AFD8-0530AAAC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744-8416-402D-9057-3A9AB998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18D-1271-47B2-B242-A14AAE62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238-C680-4D01-AB3D-4811BB6C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97B-0AB5-49D1-B787-13ECE141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425-527A-44BA-A7BA-EE945942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4616-CE34-4765-BBF5-11E3885D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363-A3FB-40C8-81DD-62342132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565F-5016-47E0-A974-B65472D92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w CT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ississippi Canyon 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/V Brooks-Mc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05/20/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B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1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944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5820120" y="3855960"/>
            <a:ext cx="20048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288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803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3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767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B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1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5943600" y="3855960"/>
            <a:ext cx="1752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tion B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05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t: 28.7295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ng: -88.3663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0:28:34Z</dcterms:created>
  <dc:creator>benjamin.shorr</dc:creator>
  <dc:description/>
  <dc:language>en-US</dc:language>
  <cp:lastModifiedBy>Sam.Tormey</cp:lastModifiedBy>
  <dcterms:modified xsi:type="dcterms:W3CDTF">2010-05-21T00:18:50Z</dcterms:modified>
  <cp:revision>67</cp:revision>
  <dc:subject/>
  <dc:title>Raw CTD data</dc:title>
</cp:coreProperties>
</file>