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A16-A598-4035-AB30-66CB9F78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7A1-38CD-4C2D-B665-8E9EF060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133-DE93-49CC-95C0-2AD072CA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7E6-408C-476F-A120-4DC8C6FC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A5A-721D-4B8E-95D7-A823BC4D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527-1F97-4F73-B544-FCCF06B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1DF-DB1E-493D-BCC1-87A6486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B0D-40D2-4BC6-A9D2-6AA33385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750-D67A-47C6-BF83-B62A9608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B55-189A-4DAB-B42D-AEE8B9BD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9A0-5375-4232-802E-824D026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65D-86CD-4EB5-BC7E-B2EDD247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8A3-036A-490E-910B-1FABBF7FF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21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B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87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51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5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66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5943600" y="3855960"/>
            <a:ext cx="19051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8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86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2T12:50:08Z</dcterms:modified>
  <cp:revision>100</cp:revision>
  <dc:subject/>
  <dc:title>Raw CTD data</dc:title>
</cp:coreProperties>
</file>