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6B04-B365-4BB4-AAD9-B49F501F0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81B4-5D7A-4DF6-A990-5B5C85359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0186-3EC5-4A24-AAD1-E03403979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889B-8B21-41B6-B81E-22702D957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3EB5-1EA4-4D01-929F-ACF16EE74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C48F-6FC7-4720-88AB-F797B22AA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95BA-1F5B-4A0E-8B73-8982370DF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8892-07A1-47B0-8292-C21CA5777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3DA6-37BC-4C2B-9420-83BEBABD5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A834-38FE-4DB3-B275-9F5B00E4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0429-7E03-4336-A37B-C30422AE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275B-6567-422C-8803-114A5C81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89648-A335-478F-A644-08B3F33B47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w CTD Time Series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ississippi Canyon 25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R/V Brooks-McC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05/15/10 – 05/21/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B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691320"/>
          </a:xfrm>
          <a:prstGeom prst="rect">
            <a:avLst/>
          </a:prstGeom>
          <a:ln w="0">
            <a:noFill/>
          </a:ln>
        </p:spPr>
      </p:pic>
      <p:sp>
        <p:nvSpPr>
          <p:cNvPr id="44" name="TextBox 3"/>
          <p:cNvSpPr/>
          <p:nvPr/>
        </p:nvSpPr>
        <p:spPr>
          <a:xfrm>
            <a:off x="5943600" y="3855960"/>
            <a:ext cx="175248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tation B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05/15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at: 28.7320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ong: -88.3768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B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691320"/>
          </a:xfrm>
          <a:prstGeom prst="rect">
            <a:avLst/>
          </a:prstGeom>
          <a:ln w="0">
            <a:noFill/>
          </a:ln>
        </p:spPr>
      </p:pic>
      <p:sp>
        <p:nvSpPr>
          <p:cNvPr id="46" name="TextBox 3"/>
          <p:cNvSpPr/>
          <p:nvPr/>
        </p:nvSpPr>
        <p:spPr>
          <a:xfrm>
            <a:off x="5820120" y="3855960"/>
            <a:ext cx="200484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tation B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05/16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at: 28.73208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ong: -88.3767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B2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69132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5820120" y="3855960"/>
            <a:ext cx="200484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tation B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05/17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at: 28.7320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ong: -88.3767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B3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691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5943600" y="3855960"/>
            <a:ext cx="190512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tation B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05/20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at: 28.7320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ong: -88.37675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B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691320"/>
          </a:xfrm>
          <a:prstGeom prst="rect">
            <a:avLst/>
          </a:prstGeom>
          <a:ln w="0">
            <a:noFill/>
          </a:ln>
        </p:spPr>
      </p:pic>
      <p:sp>
        <p:nvSpPr>
          <p:cNvPr id="52" name="TextBox 4"/>
          <p:cNvSpPr/>
          <p:nvPr/>
        </p:nvSpPr>
        <p:spPr>
          <a:xfrm>
            <a:off x="5943600" y="3855960"/>
            <a:ext cx="175248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tation B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05/21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at: 28.7320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ong: -88.3767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0:28:34Z</dcterms:created>
  <dc:creator>benjamin.shorr</dc:creator>
  <dc:description/>
  <dc:language>en-US</dc:language>
  <cp:lastModifiedBy>Sam.Tormey</cp:lastModifiedBy>
  <dcterms:modified xsi:type="dcterms:W3CDTF">2010-05-21T16:38:31Z</dcterms:modified>
  <cp:revision>72</cp:revision>
  <dc:subject/>
  <dc:title>Raw CTD data</dc:title>
</cp:coreProperties>
</file>