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108-C011-4392-83CB-0AD9D626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234-F641-4D3F-8171-C43EC3F3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DAF-F0CF-4513-9BC3-ED271709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082-0B12-4447-94B0-9D0E0FF4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4A9-FB26-4BDD-90A6-4DA12619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31D-F68E-4881-97BC-B740B074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534-839F-4CB3-9237-F445FE23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EA2-C4A5-4640-A5C0-5E0C953D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D80-35A2-4434-A84E-A0196AE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6A7-B56D-4B6B-B871-F43A152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F13-257A-4E94-842F-B9B7709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191-75BA-483A-81CE-FB8DA7C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FD0-F08A-44BF-ABAC-ED0ABB89C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20.jpg"/>
          <p:cNvPicPr/>
          <p:nvPr/>
        </p:nvPicPr>
        <p:blipFill>
          <a:blip r:embed="rId1"/>
          <a:stretch/>
        </p:blipFill>
        <p:spPr>
          <a:xfrm>
            <a:off x="2666880" y="228600"/>
            <a:ext cx="388008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B21.jpg"/>
          <p:cNvPicPr/>
          <p:nvPr/>
        </p:nvPicPr>
        <p:blipFill>
          <a:blip r:embed="rId2"/>
          <a:stretch/>
        </p:blipFill>
        <p:spPr>
          <a:xfrm>
            <a:off x="2666880" y="3174840"/>
            <a:ext cx="3886200" cy="284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26.jpg"/>
          <p:cNvPicPr/>
          <p:nvPr/>
        </p:nvPicPr>
        <p:blipFill>
          <a:blip r:embed="rId3"/>
          <a:stretch/>
        </p:blipFill>
        <p:spPr>
          <a:xfrm>
            <a:off x="2666880" y="6095880"/>
            <a:ext cx="3886200" cy="2845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533520" y="12193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5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33520" y="7315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7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533520" y="4114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16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B36.jpg"/>
          <p:cNvPicPr/>
          <p:nvPr/>
        </p:nvPicPr>
        <p:blipFill>
          <a:blip r:embed="rId1"/>
          <a:stretch/>
        </p:blipFill>
        <p:spPr>
          <a:xfrm>
            <a:off x="2666880" y="228600"/>
            <a:ext cx="3886200" cy="28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B38.jpg"/>
          <p:cNvPicPr/>
          <p:nvPr/>
        </p:nvPicPr>
        <p:blipFill>
          <a:blip r:embed="rId2"/>
          <a:stretch/>
        </p:blipFill>
        <p:spPr>
          <a:xfrm>
            <a:off x="2666880" y="3176640"/>
            <a:ext cx="388476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533520" y="12952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20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533520" y="41911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B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/21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00:42Z</dcterms:created>
  <dc:creator>Sam.Tormey</dc:creator>
  <dc:description/>
  <dc:language>en-US</dc:language>
  <cp:lastModifiedBy>Sam.Tormey</cp:lastModifiedBy>
  <dcterms:modified xsi:type="dcterms:W3CDTF">2010-05-21T16:38:26Z</dcterms:modified>
  <cp:revision>5</cp:revision>
  <dc:subject/>
  <dc:title>Slide 1</dc:title>
</cp:coreProperties>
</file>