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280-7906-4ACF-9B61-F3A4E939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865-0888-48DF-9266-092DC183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1BF-458A-4E78-A6EF-5E6E3F4F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1D3-379D-4BA2-89EE-CB0CFD7D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AFC-6E25-472A-8677-5CFD1DD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957-655B-4F43-B194-CD0C144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1E9-A321-46E6-B145-98899BD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EE5-08BB-4B1A-A14E-DDBD94CE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BA6-640C-4B58-A93C-4FD4F02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013-4881-4A85-94C9-99948E8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349-9C93-4780-A5F7-1DCF57C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5B8-16BC-4AE6-A8BD-0B189870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DFB-A01B-4AD4-8CF6-D0973B2D0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9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86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3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61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523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44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6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09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84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0T00:40:51Z</dcterms:modified>
  <cp:revision>38</cp:revision>
  <dc:subject/>
  <dc:title>Raw CTD data</dc:title>
</cp:coreProperties>
</file>