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136-4BF4-430B-B565-6AF25E3A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39A-9AE5-4A47-925A-BF37D213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6C3-F915-4265-833A-94AF9576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66D-A644-43FE-BECF-65F97AEB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F13-CF56-47E6-A3A9-4F9CB8D5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38F-C15E-4D27-A7C5-475B7D9D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25B-DA90-45CD-88EC-85A079DE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9F1-C22E-41A0-977B-2B47FE05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72B-399E-4C28-B11A-AB89D01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41B-EDAD-4BBA-A7FE-CF4C1DF2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E20-0710-4991-B047-A81F4ED6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182-148E-4EE4-82E6-EDF9760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5F40-F6DF-4381-9D32-7D1A96787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20/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B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1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944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288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803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B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295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66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1T00:18:50Z</dcterms:modified>
  <cp:revision>67</cp:revision>
  <dc:subject/>
  <dc:title>Raw CTD data</dc:title>
</cp:coreProperties>
</file>