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215-DC6E-4EC9-9007-EB6C7426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C82-E59B-4389-9E17-D2FC9D52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0D3-95FA-4690-9C4E-05826BAF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0BC-297F-405D-BA38-1FEE1523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7F8-68E0-47DF-867D-B85AD1F0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85B-B62F-432D-B3D2-F7BE5C96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4A4-58C2-40C9-A001-86F3CC1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606-E331-441F-AADC-D7EF48A1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861-B224-4164-937D-C92DE5A2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559-C275-4A70-8184-5E495DC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72C-E946-40EB-97D6-8F85CCA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29C-2B3D-4E89-B9B3-0B4978C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0363-B0A7-48B3-8BD3-11591605E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2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B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87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51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5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66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943600" y="3855960"/>
            <a:ext cx="19051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8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86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2T12:50:08Z</dcterms:modified>
  <cp:revision>100</cp:revision>
  <dc:subject/>
  <dc:title>Raw CTD data</dc:title>
</cp:coreProperties>
</file>