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C63-0558-4FE2-B850-49199F8A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C48-B960-480A-8704-900376F8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56C-2CED-4254-844E-899069A2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D62-68B4-4EBB-B4AB-2BA595E8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82F-A2BF-494A-9A04-C2A3A7FD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6A3-C378-466D-BCDE-8C4AC63C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675-958B-4B61-9DC0-3E958073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001-2E90-4939-9F85-74CB2FB0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20E-9EB7-4570-8303-236769FF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1E7-D899-4A19-9640-685F7302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DA9-1764-4397-A2B0-5E49D7AB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394-C58D-4DEF-B088-BEE0CB72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15E5-918F-48B3-B0DC-F21C47245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Time Series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15/10 – 05/21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B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8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B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943600" y="3855960"/>
            <a:ext cx="19051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5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B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1T16:38:31Z</dcterms:modified>
  <cp:revision>72</cp:revision>
  <dc:subject/>
  <dc:title>Raw CTD data</dc:title>
</cp:coreProperties>
</file>