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3EE-B001-4562-815C-DBC6A9B7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D89-3AA6-4AD7-A26F-655894A1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985-1D3D-413D-A57E-1C35839B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DD9-D9DC-4E15-A2B3-6004E50E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FC6-CF73-402D-A858-B6D9C6AF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D7A-FC5D-402D-BE7A-85BC6513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BD8-4089-4237-B2BC-15C6DD65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D76-CE43-4262-A753-4C8236B8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D49-06D7-405F-A785-8C2E4855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5FF-B866-48F6-A644-6E6D2381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C8C-4241-4F03-B65A-96D7EB5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4EA-C7C9-4654-995E-9555F92F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EA5E-6202-433C-89D2-F150CA82F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20.jpg"/>
          <p:cNvPicPr/>
          <p:nvPr/>
        </p:nvPicPr>
        <p:blipFill>
          <a:blip r:embed="rId1"/>
          <a:stretch/>
        </p:blipFill>
        <p:spPr>
          <a:xfrm>
            <a:off x="2666880" y="228600"/>
            <a:ext cx="3880080" cy="2840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B21.jpg"/>
          <p:cNvPicPr/>
          <p:nvPr/>
        </p:nvPicPr>
        <p:blipFill>
          <a:blip r:embed="rId2"/>
          <a:stretch/>
        </p:blipFill>
        <p:spPr>
          <a:xfrm>
            <a:off x="2666880" y="3174840"/>
            <a:ext cx="3886200" cy="284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26.jpg"/>
          <p:cNvPicPr/>
          <p:nvPr/>
        </p:nvPicPr>
        <p:blipFill>
          <a:blip r:embed="rId3"/>
          <a:stretch/>
        </p:blipFill>
        <p:spPr>
          <a:xfrm>
            <a:off x="2666880" y="6095880"/>
            <a:ext cx="3886200" cy="2845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533520" y="12193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15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33520" y="73152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17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533520" y="4114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16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B36.jpg"/>
          <p:cNvPicPr/>
          <p:nvPr/>
        </p:nvPicPr>
        <p:blipFill>
          <a:blip r:embed="rId1"/>
          <a:stretch/>
        </p:blipFill>
        <p:spPr>
          <a:xfrm>
            <a:off x="2666880" y="228600"/>
            <a:ext cx="3886200" cy="28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B38.jpg"/>
          <p:cNvPicPr/>
          <p:nvPr/>
        </p:nvPicPr>
        <p:blipFill>
          <a:blip r:embed="rId2"/>
          <a:stretch/>
        </p:blipFill>
        <p:spPr>
          <a:xfrm>
            <a:off x="2666880" y="3176640"/>
            <a:ext cx="3884760" cy="2843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533520" y="12952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20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533520" y="41911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21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00:42Z</dcterms:created>
  <dc:creator>Sam.Tormey</dc:creator>
  <dc:description/>
  <dc:language>en-US</dc:language>
  <cp:lastModifiedBy>Sam.Tormey</cp:lastModifiedBy>
  <dcterms:modified xsi:type="dcterms:W3CDTF">2010-05-21T16:38:26Z</dcterms:modified>
  <cp:revision>5</cp:revision>
  <dc:subject/>
  <dc:title>Slide 1</dc:title>
</cp:coreProperties>
</file>