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B06-29A8-401B-A116-B7882007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95CD-0F7C-452D-BDEC-17D8DDC1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368-1F39-4263-AE40-3021F97E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E23-94E7-49DC-B95C-C82880B4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BC5-6050-41B2-899C-CC72623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027A-3327-4D46-86C8-D023FB21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806-B1E6-44C7-BCE9-447934C8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73ED-8D6B-430B-BD27-117D7733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9A70-5E58-4D5D-846D-C1E77D70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890-39D3-4C21-B546-C86994BC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27C-8D19-4ABA-ABD0-5D3FB5B6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9B93-FC8E-47DA-BA08-048601E8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F6C5-428E-4D4F-887B-C5199DDFD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74d.jpg"/>
          <p:cNvPicPr/>
          <p:nvPr/>
        </p:nvPicPr>
        <p:blipFill>
          <a:blip r:embed="rId1"/>
          <a:stretch/>
        </p:blipFill>
        <p:spPr>
          <a:xfrm>
            <a:off x="709560" y="162000"/>
            <a:ext cx="7724880" cy="6534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43840" y="3048120"/>
            <a:ext cx="16329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TD Raw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ion BM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6/07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:28.6880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:-88.4183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0:30:41Z</dcterms:created>
  <dc:creator>Cynthia Cooksey</dc:creator>
  <dc:description/>
  <dc:language>en-US</dc:language>
  <cp:lastModifiedBy>Cynthia Cooksey</cp:lastModifiedBy>
  <dcterms:modified xsi:type="dcterms:W3CDTF">2010-06-08T00:02:34Z</dcterms:modified>
  <cp:revision>17</cp:revision>
  <dc:subject/>
  <dc:title>Slide 1</dc:title>
</cp:coreProperties>
</file>