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7EEA-0E7A-405A-B23C-251F672C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37D0-D6DD-4268-97BC-87D98F423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29FD-5E4E-49EB-A091-19102F27A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5383-4A50-47AA-91E0-4598D3294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5CF9-13F5-4AB7-B40E-CE8E9A085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6E08-3375-4FB7-BD55-FC92F9856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F88-3784-4A35-B522-A8F1AE4F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DC67-4FAC-4638-8517-E9539C8A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F91-462A-41DA-B0E8-5E6FFA54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750-EBCF-4132-9752-5D5ED2E4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410-684A-42D1-9426-FCF8F7B8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5FC-19AD-4C56-B919-633956CF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7B8-D205-4977-855C-24297511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1D53-9848-435E-8C39-FA2B077A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C8E-8831-452D-974B-2F1DE6D0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101C-0E82-4D4D-ADE7-A047F6CE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533-09CB-44AC-93EA-3551D6F3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C7A7-2E40-4CB0-86D7-C7E77C48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9F17-CD89-45DC-AAC4-40C27C1D9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 of Available Maximum Fluorometry Da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Vess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vailable as of June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Priority Cas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6"/>
          <p:cNvGrpSpPr/>
          <p:nvPr/>
        </p:nvGrpSpPr>
        <p:grpSpPr>
          <a:xfrm>
            <a:off x="0" y="457200"/>
            <a:ext cx="8915400" cy="6400800"/>
            <a:chOff x="0" y="457200"/>
            <a:chExt cx="8915400" cy="6400800"/>
          </a:xfrm>
        </p:grpSpPr>
        <p:pic>
          <p:nvPicPr>
            <p:cNvPr id="51" name="Picture 4" descr="Boats_SampleLocations_BM_WS_GG_OV_June4b_MaxFluroCont1 (2)"/>
            <p:cNvPicPr/>
            <p:nvPr/>
          </p:nvPicPr>
          <p:blipFill>
            <a:blip r:embed="rId1"/>
            <a:stretch/>
          </p:blipFill>
          <p:spPr>
            <a:xfrm>
              <a:off x="0" y="457200"/>
              <a:ext cx="733104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>
              <a:off x="6058080" y="1371600"/>
              <a:ext cx="2857320" cy="437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oured Maximum Fluorometry Readings at each station greater than background of 8 p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Sour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inter-vessel calibration of these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times included in this p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 a view of current or past dat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available as of June 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2010 to UC Rob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2"/>
          <p:cNvGrpSpPr/>
          <p:nvPr/>
        </p:nvGrpSpPr>
        <p:grpSpPr>
          <a:xfrm>
            <a:off x="0" y="228600"/>
            <a:ext cx="8915400" cy="6400800"/>
            <a:chOff x="0" y="228600"/>
            <a:chExt cx="8915400" cy="6400800"/>
          </a:xfrm>
        </p:grpSpPr>
        <p:pic>
          <p:nvPicPr>
            <p:cNvPr id="54" name="Picture 3" descr="Boats_SampleLocations_BM_WS_GG_OV_June4b_MaxFluroCont1 (2)"/>
            <p:cNvPicPr/>
            <p:nvPr/>
          </p:nvPicPr>
          <p:blipFill>
            <a:blip r:embed="rId1"/>
            <a:stretch/>
          </p:blipFill>
          <p:spPr>
            <a:xfrm>
              <a:off x="0" y="228600"/>
              <a:ext cx="7331040" cy="64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4"/>
            <p:cNvSpPr/>
            <p:nvPr/>
          </p:nvSpPr>
          <p:spPr>
            <a:xfrm>
              <a:off x="6058080" y="1143000"/>
              <a:ext cx="2857320" cy="437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oured Maximum Fluorometry Readings at each station greater than background of 8 pp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Sour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inter-vessel calibration of these 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e times included in this plo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 a view of current or past dat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 available as of June 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th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2010 to UC Robe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Oval 7"/>
          <p:cNvSpPr/>
          <p:nvPr/>
        </p:nvSpPr>
        <p:spPr>
          <a:xfrm rot="834600">
            <a:off x="2285640" y="2857680"/>
            <a:ext cx="1143000" cy="1485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114800" y="2171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4229280" y="2286000"/>
            <a:ext cx="1120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148608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1600200" y="2171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114800" y="3772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4"/>
          <p:cNvSpPr/>
          <p:nvPr/>
        </p:nvSpPr>
        <p:spPr>
          <a:xfrm>
            <a:off x="2400480" y="2171880"/>
            <a:ext cx="799920" cy="799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5"/>
          <p:cNvSpPr/>
          <p:nvPr/>
        </p:nvSpPr>
        <p:spPr>
          <a:xfrm>
            <a:off x="3086280" y="2057400"/>
            <a:ext cx="914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6"/>
          <p:cNvSpPr/>
          <p:nvPr/>
        </p:nvSpPr>
        <p:spPr>
          <a:xfrm>
            <a:off x="3200400" y="2743200"/>
            <a:ext cx="91440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as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Boats_SampleLocations_BM_WS_GG_OV_June4b_MaxFluroCont1 (2)"/>
          <p:cNvPicPr/>
          <p:nvPr/>
        </p:nvPicPr>
        <p:blipFill>
          <a:blip r:embed="rId1"/>
          <a:stretch/>
        </p:blipFill>
        <p:spPr>
          <a:xfrm>
            <a:off x="-4245120" y="-4206960"/>
            <a:ext cx="20483640" cy="17881560"/>
          </a:xfrm>
          <a:prstGeom prst="rect">
            <a:avLst/>
          </a:prstGeom>
          <a:ln w="0">
            <a:noFill/>
          </a:ln>
        </p:spPr>
      </p:pic>
      <p:sp>
        <p:nvSpPr>
          <p:cNvPr id="67" name="Oval 6"/>
          <p:cNvSpPr/>
          <p:nvPr/>
        </p:nvSpPr>
        <p:spPr>
          <a:xfrm>
            <a:off x="2743200" y="1600200"/>
            <a:ext cx="1828800" cy="1828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7"/>
          <p:cNvSpPr/>
          <p:nvPr/>
        </p:nvSpPr>
        <p:spPr>
          <a:xfrm>
            <a:off x="4572000" y="1486080"/>
            <a:ext cx="2171880" cy="217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8"/>
          <p:cNvSpPr/>
          <p:nvPr/>
        </p:nvSpPr>
        <p:spPr>
          <a:xfrm>
            <a:off x="4800600" y="2857680"/>
            <a:ext cx="2171880" cy="2171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 rot="2008800">
            <a:off x="2971440" y="3200400"/>
            <a:ext cx="1828800" cy="2743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6286680" y="13716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6515280" y="4572000"/>
            <a:ext cx="1600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 21-23 not plo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1943280" y="537228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943280" y="182880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Boats_SampleLocations_BM_WS_GG_OV_June4b_MaxFluroCont1 (2)"/>
          <p:cNvPicPr/>
          <p:nvPr/>
        </p:nvPicPr>
        <p:blipFill>
          <a:blip r:embed="rId1"/>
          <a:stretch/>
        </p:blipFill>
        <p:spPr>
          <a:xfrm>
            <a:off x="0" y="457200"/>
            <a:ext cx="7331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16:49:17Z</dcterms:created>
  <dc:creator> </dc:creator>
  <dc:description/>
  <dc:language>en-US</dc:language>
  <cp:lastModifiedBy>Cynthia Cooksey</cp:lastModifiedBy>
  <dcterms:modified xsi:type="dcterms:W3CDTF">2010-06-06T02:00:12Z</dcterms:modified>
  <cp:revision>6</cp:revision>
  <dc:subject/>
  <dc:title>Map of Available Maximum Fluorometry Da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qminfo">
    <vt:r8>23</vt:r8>
  </property>
  <property fmtid="{D5CDD505-2E9C-101B-9397-08002B2CF9AE}" pid="3" name="lqmsess">
    <vt:lpwstr>afcfe684-a324-4c4d-9ad4-fc0aac1364da</vt:lpwstr>
  </property>
</Properties>
</file>