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B12-42E4-43F4-8970-520CD3BD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EA25-BDEF-46F4-928F-2D3182D9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78F-65B5-4DB0-BA89-EFA83D02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D755-087A-4FED-81AA-BB62E103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0943-6D7F-42A0-805F-D4D34F50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D2B1-A195-490D-ADEA-E10CB242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BA16-CC22-4799-AFE9-F84BAFA5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804E-A4E6-4327-914B-3E531570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A91-D5C7-48FC-B726-E4009F7E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EC15-E16D-4822-881E-F0FDC4A3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0E3-4531-41A2-8E66-15DED074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47C-CD11-41E7-9BED-A0A39E47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FA59-6720-4E9C-833C-2FCE4BB9D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B74d.jpg"/>
          <p:cNvPicPr/>
          <p:nvPr/>
        </p:nvPicPr>
        <p:blipFill>
          <a:blip r:embed="rId1"/>
          <a:stretch/>
        </p:blipFill>
        <p:spPr>
          <a:xfrm>
            <a:off x="709560" y="162000"/>
            <a:ext cx="7724880" cy="6534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5343840" y="3048120"/>
            <a:ext cx="16329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 BM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6/07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28.6880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:-88.418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20:30:41Z</dcterms:created>
  <dc:creator>Cynthia Cooksey</dc:creator>
  <dc:description/>
  <dc:language>en-US</dc:language>
  <cp:lastModifiedBy>Cynthia Cooksey</cp:lastModifiedBy>
  <dcterms:modified xsi:type="dcterms:W3CDTF">2010-06-08T00:02:34Z</dcterms:modified>
  <cp:revision>17</cp:revision>
  <dc:subject/>
  <dc:title>Slide 1</dc:title>
</cp:coreProperties>
</file>