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560A-9470-49CB-9AC2-623BC138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A31E-FEC0-4C8E-92A3-2951970F4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B31F-9E55-434C-95EA-E2045F23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3085-7EAE-4C14-9B38-32EC5E225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096A-5240-490C-9A1E-E5AB30BC7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A0A1-DF17-4992-90F7-20680481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4D0-D660-489D-86EC-1F4604CB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4E9-B1BD-4749-8D5B-D8C90B8B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E9F-18D6-4C39-A0F3-8A3A248B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63C-0118-4053-A5E8-A324870C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CA1-E63D-43B2-A2B9-EE65D653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07C-D6C6-4326-9F0A-81681F6E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5EF-CD78-486A-84A1-316479CB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640-F164-4E03-8422-4979F442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BB8-0376-4D6A-BE4D-EED017E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996-211D-4097-A7B8-CAE5996D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E33-755C-4E0E-8E5F-3CE53A8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7DA-2B08-4D6B-BDFE-DD878CB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CE42-E440-40EB-8FD9-6CF4C5217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of Available Maximum Fluorometry 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Vess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vailable as of Jun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Priority Cas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6"/>
          <p:cNvGrpSpPr/>
          <p:nvPr/>
        </p:nvGrpSpPr>
        <p:grpSpPr>
          <a:xfrm>
            <a:off x="0" y="457200"/>
            <a:ext cx="8915400" cy="6400800"/>
            <a:chOff x="0" y="457200"/>
            <a:chExt cx="8915400" cy="6400800"/>
          </a:xfrm>
        </p:grpSpPr>
        <p:pic>
          <p:nvPicPr>
            <p:cNvPr id="51" name="Picture 4" descr="Boats_SampleLocations_BM_WS_GG_OV_June4b_MaxFluroCont1 (2)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733104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6058080" y="1371600"/>
              <a:ext cx="2857320" cy="437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oured Maximum Fluorometry Readings at each station greater than background of 8 p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Sour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inter-vessel calibration of these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times included in this p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 a view of current or past dat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available as of June 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2010 to UC Rob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228600"/>
            <a:ext cx="8915400" cy="6400800"/>
            <a:chOff x="0" y="228600"/>
            <a:chExt cx="8915400" cy="6400800"/>
          </a:xfrm>
        </p:grpSpPr>
        <p:pic>
          <p:nvPicPr>
            <p:cNvPr id="54" name="Picture 3" descr="Boats_SampleLocations_BM_WS_GG_OV_June4b_MaxFluroCont1 (2)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733104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4"/>
            <p:cNvSpPr/>
            <p:nvPr/>
          </p:nvSpPr>
          <p:spPr>
            <a:xfrm>
              <a:off x="6058080" y="1143000"/>
              <a:ext cx="2857320" cy="437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oured Maximum Fluorometry Readings at each station greater than background of 8 p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Sour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inter-vessel calibration of these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times included in this p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 a view of current or past dat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available as of June 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2010 to UC Rob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Oval 7"/>
          <p:cNvSpPr/>
          <p:nvPr/>
        </p:nvSpPr>
        <p:spPr>
          <a:xfrm rot="834600">
            <a:off x="2285640" y="2857680"/>
            <a:ext cx="1143000" cy="1485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114800" y="2171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229280" y="228600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48608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600200" y="2171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114800" y="3772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2400480" y="2171880"/>
            <a:ext cx="799920" cy="799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3086280" y="2057400"/>
            <a:ext cx="914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3200400" y="2743200"/>
            <a:ext cx="914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s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oats_SampleLocations_BM_WS_GG_OV_June4b_MaxFluroCont1 (2)"/>
          <p:cNvPicPr/>
          <p:nvPr/>
        </p:nvPicPr>
        <p:blipFill>
          <a:blip r:embed="rId1"/>
          <a:stretch/>
        </p:blipFill>
        <p:spPr>
          <a:xfrm>
            <a:off x="-4245120" y="-4206960"/>
            <a:ext cx="20483640" cy="17881560"/>
          </a:xfrm>
          <a:prstGeom prst="rect">
            <a:avLst/>
          </a:prstGeom>
          <a:ln w="0">
            <a:noFill/>
          </a:ln>
        </p:spPr>
      </p:pic>
      <p:sp>
        <p:nvSpPr>
          <p:cNvPr id="67" name="Oval 6"/>
          <p:cNvSpPr/>
          <p:nvPr/>
        </p:nvSpPr>
        <p:spPr>
          <a:xfrm>
            <a:off x="2743200" y="1600200"/>
            <a:ext cx="1828800" cy="1828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4572000" y="1486080"/>
            <a:ext cx="2171880" cy="217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4800600" y="2857680"/>
            <a:ext cx="2171880" cy="217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 rot="2008800">
            <a:off x="2971440" y="3200400"/>
            <a:ext cx="1828800" cy="2743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286680" y="13716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515280" y="4572000"/>
            <a:ext cx="1600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 21-23 not plo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943280" y="53722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943280" y="18288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Boats_SampleLocations_BM_WS_GG_OV_June4b_MaxFluroCont1 (2)"/>
          <p:cNvPicPr/>
          <p:nvPr/>
        </p:nvPicPr>
        <p:blipFill>
          <a:blip r:embed="rId1"/>
          <a:stretch/>
        </p:blipFill>
        <p:spPr>
          <a:xfrm>
            <a:off x="0" y="457200"/>
            <a:ext cx="7331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6:49:17Z</dcterms:created>
  <dc:creator> </dc:creator>
  <dc:description/>
  <dc:language>en-US</dc:language>
  <cp:lastModifiedBy>Cynthia Cooksey</cp:lastModifiedBy>
  <dcterms:modified xsi:type="dcterms:W3CDTF">2010-06-06T02:00:12Z</dcterms:modified>
  <cp:revision>6</cp:revision>
  <dc:subject/>
  <dc:title>Map of Available Maximum Fluorometry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qminfo">
    <vt:r8>23</vt:r8>
  </property>
  <property fmtid="{D5CDD505-2E9C-101B-9397-08002B2CF9AE}" pid="3" name="lqmsess">
    <vt:lpwstr>afcfe684-a324-4c4d-9ad4-fc0aac1364da</vt:lpwstr>
  </property>
</Properties>
</file>