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34FD-4C2A-44BC-9A32-EC470E66E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31F6-EF0F-4E40-9296-103172100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852D-992F-46C8-AE28-598F24C3B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2FDD-3F4F-47EE-9D29-D1C9D7658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2C0-BE96-45B7-91BC-705C2FA7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F27-CF3B-499C-86EB-6C282625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EF2-BFD4-4031-8B37-5ECA761C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A1B-5AE7-45CB-8233-E1E2A2BE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330-10CA-4249-BF86-52A10404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53C-B66D-4A9A-A37E-111C9490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520-BDAC-4310-8929-6E600B44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A06-B476-4041-9122-83B42DBF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3E5-D9DA-43A5-85C8-7DF0B9AC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0F5-CD31-4D71-A60E-DE6B025F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D0C-FFE5-40E2-A97C-652058BC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9E9-3007-4C5B-88E2-C857643D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3FAA-5F00-4824-BCFA-5CB79E2BB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3" descr="BP-TN05-SS08.jpg"/>
          <p:cNvPicPr/>
          <p:nvPr/>
        </p:nvPicPr>
        <p:blipFill>
          <a:blip r:embed="rId1"/>
          <a:stretch/>
        </p:blipFill>
        <p:spPr>
          <a:xfrm>
            <a:off x="442800" y="685800"/>
            <a:ext cx="8320320" cy="5440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6400800" y="385596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522 Long: -88.11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P-TN05-SS07.jpg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47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00800" y="388620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2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1105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BP-TN05-SS09.jpg"/>
          <p:cNvPicPr/>
          <p:nvPr/>
        </p:nvPicPr>
        <p:blipFill>
          <a:blip r:embed="rId1"/>
          <a:stretch/>
        </p:blipFill>
        <p:spPr>
          <a:xfrm>
            <a:off x="442800" y="685800"/>
            <a:ext cx="8320320" cy="5440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00800" y="385596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578 Long: -88.110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8T00:51:06Z</dcterms:modified>
  <cp:revision>4</cp:revision>
  <dc:subject/>
  <dc:title>Slide 1</dc:title>
</cp:coreProperties>
</file>