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37F9-FF07-430D-88A3-BF197E64E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D962-672D-4654-BF37-A13FE314A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A77-BC99-4AD5-A9BE-2204D34B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D12-22DA-4F36-B80F-AE19F7A6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5F2-B546-47F0-AB13-613C591D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984-0446-442B-8E8A-6B02F033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D47-6507-42EE-917A-59A7B5FD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FC8-87D0-4E1D-9255-406AFDC4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4C0-C063-4BA7-8981-C2BE1485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2CB3-B85A-4BB0-953B-1C15C00E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690-B0FB-4CFB-9274-892190F7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2FA-4692-4455-9F1D-BC422EA6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135-F87C-4AC0-BCC2-B306A645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B24-7049-44F0-9DA3-FE1B6BF6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368D-0801-4F1A-816A-085CDCBA5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P-TN05-SS10.jpg"/>
          <p:cNvPicPr/>
          <p:nvPr/>
        </p:nvPicPr>
        <p:blipFill>
          <a:blip r:embed="rId1"/>
          <a:stretch/>
        </p:blipFill>
        <p:spPr>
          <a:xfrm>
            <a:off x="380880" y="685800"/>
            <a:ext cx="8418600" cy="5504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3656160"/>
            <a:ext cx="205740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8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57024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8.32244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7-29T01:43:32Z</dcterms:modified>
  <cp:revision>2</cp:revision>
  <dc:subject/>
  <dc:title>Slide 1</dc:title>
</cp:coreProperties>
</file>