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0D68-477E-40D3-98F0-1609C51FD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AF01-29FB-4644-892A-E2E935185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42F-E05A-44BD-BCDE-E984B429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C3F-4F04-451F-A0C9-68ADF918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46C-8C45-495D-A413-3FE19D74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7A5-268B-4302-AC51-4838C1D5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F67-CD8B-4F55-BC74-EFB44AB9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551-2EC6-42F0-AC39-E76E122E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257-92CD-420B-B693-5A94B6DA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C0C-E28F-48BB-AE31-4B0C76EF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2C8-02FE-4DD9-BBA4-7915B838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D4E-895E-4F4E-8BE4-73D32B9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E97-BCA4-4A8D-B4E0-05470229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2EA-B64F-43BC-9417-F270E267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4D46-8C03-42B1-9714-5A84F0BB8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06-SS02_CTD.bmp"/>
          <p:cNvPicPr/>
          <p:nvPr/>
        </p:nvPicPr>
        <p:blipFill>
          <a:blip r:embed="rId1"/>
          <a:stretch/>
        </p:blipFill>
        <p:spPr>
          <a:xfrm>
            <a:off x="457200" y="692280"/>
            <a:ext cx="8389800" cy="5022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347508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6-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9.2871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7141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9T22:30:11Z</dcterms:modified>
  <cp:revision>3</cp:revision>
  <dc:subject/>
  <dc:title>Slide 1</dc:title>
</cp:coreProperties>
</file>