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64A-15DD-411E-834E-B0E3BC8A3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3987-8E03-437C-BDCA-9BD2321DD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9440-EFA8-48E3-B73B-A5B4AD32F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BE14-D19C-4706-8FDF-543B76137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8EF-7B7C-40DC-AE27-75B4C81E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D97-9607-4E2D-94AE-A362A7CF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30A-AAE0-4084-BEBE-E21D2576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B6F-8987-419D-8ABA-E564C734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040-2613-4F46-9113-18FD0CD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204-F812-40EA-AC2D-38D417A0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05A-8CE2-4D04-AA3A-03A7C3C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B75-5490-4B81-885E-D0A309D8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601-F45B-4CC8-A760-25CE1701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BDC-5C3F-42E1-BB4B-41999E2F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84D-29E7-4808-AC89-79F12E1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EED-E893-46DA-8546-A1719F62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BF9-EDA7-4C4F-AF4F-600760A4C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3" descr="BP-TN05-SS08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22 Long: -88.11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P-TN05-SS07.jpg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479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400800" y="388620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2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: -88.1105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BP-TN05-SS09.jpg"/>
          <p:cNvPicPr/>
          <p:nvPr/>
        </p:nvPicPr>
        <p:blipFill>
          <a:blip r:embed="rId1"/>
          <a:stretch/>
        </p:blipFill>
        <p:spPr>
          <a:xfrm>
            <a:off x="442800" y="685800"/>
            <a:ext cx="8320320" cy="544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400800" y="3855960"/>
            <a:ext cx="2057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: BP-TN05-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7/27/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 28.659578 Long: -88.110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0:05:14Z</dcterms:created>
  <dc:creator>Kaitlyn Summers</dc:creator>
  <dc:description/>
  <dc:language>en-US</dc:language>
  <cp:lastModifiedBy>Kaitlyn Summers</cp:lastModifiedBy>
  <dcterms:modified xsi:type="dcterms:W3CDTF">2010-07-28T00:51:06Z</dcterms:modified>
  <cp:revision>4</cp:revision>
  <dc:subject/>
  <dc:title>Slide 1</dc:title>
</cp:coreProperties>
</file>