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EB06-284F-4BDD-BFE0-DC385DE0D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D315-1F5C-407A-95E4-92545EBED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CC0-261C-494A-835A-0F05F62E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D507-1050-4E48-A502-BE883955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604F-2414-4C05-9705-9E338BD4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B1B-FEA8-4641-A147-22536CA7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4E62-F38F-49D3-B6B4-7F7BD265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037E-163C-422B-AB1B-0D5E6A81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4404-A486-4D0E-A03A-4FEE71F0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61E3-D42F-4DC5-9744-291511CA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EA63-EE25-47B6-961D-F326E3A2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39F-9E33-4221-AAE1-2C3A6B1C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5E2B-4F76-422E-9D54-4F11AC72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2116-49F2-43DC-A0DA-D2D5C7D1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2A1E-843C-4BAA-8F40-08D846BD6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BP-TN05-SS10.jpg"/>
          <p:cNvPicPr/>
          <p:nvPr/>
        </p:nvPicPr>
        <p:blipFill>
          <a:blip r:embed="rId1"/>
          <a:stretch/>
        </p:blipFill>
        <p:spPr>
          <a:xfrm>
            <a:off x="380880" y="685800"/>
            <a:ext cx="8418600" cy="5504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6477120" y="3656160"/>
            <a:ext cx="205740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5-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7/28/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8.57024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8.32244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7-29T01:43:32Z</dcterms:modified>
  <cp:revision>2</cp:revision>
  <dc:subject/>
  <dc:title>Slide 1</dc:title>
</cp:coreProperties>
</file>