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729B-18C3-4543-8EE7-05B799C8BB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ED53-EF2E-423F-8BB4-CFF37E4105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A002-8D03-4BD9-B522-51F2CC3D4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789B-0733-4F3A-98F3-582AF6FF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83DE-AD6A-408A-BD83-5CFD3041C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14F8-B928-46D8-87CE-0618DE292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9BF0-B8EB-4B0A-B64C-5BC5BACE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D953-7F61-49C6-B8CB-A71D1A84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4D05-08AD-4A8C-8AC4-C9CA0D05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8F38-121D-4260-B2E4-2E8B0F1D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C172-416A-4A4F-85CF-C18072F4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B2C0-8ACF-470B-8AD9-731A1A9E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1378-3093-49F6-9B93-8A933628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CF8B-67D6-4C7F-BA7C-E60BF79B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B3E3-20E1-48AC-BED3-F2061BE581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BP-TN06-SS02_CTD.bmp"/>
          <p:cNvPicPr/>
          <p:nvPr/>
        </p:nvPicPr>
        <p:blipFill>
          <a:blip r:embed="rId1"/>
          <a:stretch/>
        </p:blipFill>
        <p:spPr>
          <a:xfrm>
            <a:off x="457200" y="692280"/>
            <a:ext cx="8389800" cy="50227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6477120" y="3475080"/>
            <a:ext cx="20574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06-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9.28717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: -88.71418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00:05:14Z</dcterms:created>
  <dc:creator>Kaitlyn Summers</dc:creator>
  <dc:description/>
  <dc:language>en-US</dc:language>
  <cp:lastModifiedBy>Kaitlyn Summers</cp:lastModifiedBy>
  <dcterms:modified xsi:type="dcterms:W3CDTF">2010-07-29T22:30:11Z</dcterms:modified>
  <cp:revision>3</cp:revision>
  <dc:subject/>
  <dc:title>Slide 1</dc:title>
</cp:coreProperties>
</file>