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31E-67CC-46C2-953D-AE8EE06DB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CE5-A1F8-4C50-BAAC-0B5F3A442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49C-8C1F-48CC-B4AB-C5F454C04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4096-D4A0-4B82-8B67-693E6090E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626-4E16-4CAF-98C8-1AAF6B44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E48-09FF-4F0A-9749-2B5E6CC7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B88-7D62-43B0-9826-AEAE0D8F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D7E-CDCB-4FB0-A349-5AF8B1FD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FAE-861A-4092-A3E5-AA31A0A5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396-3CAE-4579-B1B0-38980D4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188-5FC8-4CA3-89A1-88C1BD0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D35-FCCF-49FC-88C9-51AB7E3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C8A-3AF6-49DE-9E29-5F2C4EF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A98-C6B7-4737-9833-4FBEA02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0EA-E468-43A5-A24A-751044B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7D3-BC47-42AE-AD30-B5AD68E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CF60-C9D2-4322-939A-C17AC4060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BP-TN05-SS08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22 Long: -88.11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P-TN05-SS07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47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00800" y="38862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2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1105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BP-TN05-SS09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78 Long: -88.110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8T00:51:06Z</dcterms:modified>
  <cp:revision>4</cp:revision>
  <dc:subject/>
  <dc:title>Slide 1</dc:title>
</cp:coreProperties>
</file>