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77B1-C0B2-4E8E-B886-B9C1B5763E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3EBC-E27C-4788-BE73-4402276B9C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2883-EA2C-4182-A6CF-FF1F57A41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B45F-BAE1-442A-AA6A-296BED1A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9373-D585-4025-A31E-66D75A3E8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B65F-8FDA-4714-A1E0-E95045B5A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8D18-EAC2-451B-9593-41D7AD0B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3A7F-4F49-4CAE-96B1-AF5DED2E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CC64-BE40-43A7-804B-AB9158B9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9BA0-9F92-4B66-92D8-E671924D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9FA8-486C-4ED3-AD56-A1D0E33A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38A5-867B-4603-A4ED-83FC8BAC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65E4-BE24-49B0-9296-FDAD3A6E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E44B-2CD0-424A-A1D9-731FAF52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BFF5-911A-4D18-B7C7-FCAD3091C7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BP-TN05-SS10.jpg"/>
          <p:cNvPicPr/>
          <p:nvPr/>
        </p:nvPicPr>
        <p:blipFill>
          <a:blip r:embed="rId1"/>
          <a:stretch/>
        </p:blipFill>
        <p:spPr>
          <a:xfrm>
            <a:off x="380880" y="685800"/>
            <a:ext cx="8418600" cy="550404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6477120" y="3656160"/>
            <a:ext cx="205740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05-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7/28/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: 28.570242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ng: -88.322442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7T00:05:14Z</dcterms:created>
  <dc:creator>Kaitlyn Summers</dc:creator>
  <dc:description/>
  <dc:language>en-US</dc:language>
  <cp:lastModifiedBy>Kaitlyn Summers</cp:lastModifiedBy>
  <dcterms:modified xsi:type="dcterms:W3CDTF">2010-07-29T01:43:32Z</dcterms:modified>
  <cp:revision>2</cp:revision>
  <dc:subject/>
  <dc:title>Slide 1</dc:title>
</cp:coreProperties>
</file>