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CDDD-C75B-4638-BA97-EB86AA348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6B2-1D1F-4200-8D90-705F92F13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8D4-013A-4412-84B4-4300E416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F15-FAD9-4A08-8B1F-C46C527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F49-B44B-4292-B8AC-9AC579E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009-CFF0-442B-845D-4D54EB10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0C4-68D8-4893-AE42-F8051DA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F9E-936A-4360-85FA-088588CE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260-9FEC-4E68-93CD-0FFDDBA1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829-7EF0-4522-8C8C-93BB2ECC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22B-FD81-4BFC-BC62-0811A999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455-4468-460E-B57B-E8C18A5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6F0-FFD1-473C-942D-032AB88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7F3-4632-4155-B0CD-DA94724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F88B-4B10-4A8C-8096-E8F3FF666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06-SS02_CTD.bmp"/>
          <p:cNvPicPr/>
          <p:nvPr/>
        </p:nvPicPr>
        <p:blipFill>
          <a:blip r:embed="rId1"/>
          <a:stretch/>
        </p:blipFill>
        <p:spPr>
          <a:xfrm>
            <a:off x="457200" y="692280"/>
            <a:ext cx="838980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47508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6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9.287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714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22:30:11Z</dcterms:modified>
  <cp:revision>3</cp:revision>
  <dc:subject/>
  <dc:title>Slide 1</dc:title>
</cp:coreProperties>
</file>