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D41-D27A-4A92-B54D-BFAFED2F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2EB-55A2-4020-98C0-F9A7C5EF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322-80E6-4D8D-B24F-53A19C2C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2D2-C094-4DEF-98C3-05C753C3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4DB-931D-4F47-BC91-52E556F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505-4D63-4795-8705-A232BC8B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B5B-8AFC-43A2-B64C-FF9555B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5EB-D28D-426D-B92A-5EA7EBF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5A9-4CE4-42C4-8615-828DE33F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492-70BA-4F25-9855-81C7AE5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CFC-8ADF-4DB9-AC70-CEC42F4A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7FF-4BB5-4ABA-83C5-6A6ABF5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3FC0-080C-48F8-BB77-6FB4BBB1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BP-TN09-SS01.jpg"/>
          <p:cNvPicPr/>
          <p:nvPr/>
        </p:nvPicPr>
        <p:blipFill>
          <a:blip r:embed="rId1"/>
          <a:stretch/>
        </p:blipFill>
        <p:spPr>
          <a:xfrm>
            <a:off x="533520" y="609480"/>
            <a:ext cx="8234280" cy="538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5867280" y="3733920"/>
            <a:ext cx="2590920" cy="1465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9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0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1542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8551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BP-TN09-SS02.jpg"/>
          <p:cNvPicPr/>
          <p:nvPr/>
        </p:nvPicPr>
        <p:blipFill>
          <a:blip r:embed="rId1"/>
          <a:stretch/>
        </p:blipFill>
        <p:spPr>
          <a:xfrm>
            <a:off x="533520" y="522360"/>
            <a:ext cx="8254800" cy="5573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715000" y="3733920"/>
            <a:ext cx="2743200" cy="1465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9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0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1089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886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1:56:10Z</dcterms:created>
  <dc:creator>CSS</dc:creator>
  <dc:description/>
  <dc:language>en-US</dc:language>
  <cp:lastModifiedBy>Admin4</cp:lastModifiedBy>
  <dcterms:modified xsi:type="dcterms:W3CDTF">2010-08-05T00:59:31Z</dcterms:modified>
  <cp:revision>8</cp:revision>
  <dc:subject/>
  <dc:title>Slide 1</dc:title>
</cp:coreProperties>
</file>