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2555-1D3D-4E2F-8759-C35A0FDF95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A5D0-AE6C-4E68-86B6-B4775F9C8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5474-1941-466A-B38D-234CCDF81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FDF2-2E8A-4F73-8A80-1E137C01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3AA0-C44D-49B4-88B9-46AC567C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B2DA-38CB-46CE-80CE-769E2E39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74CD-7B82-40B4-9C18-10BF1850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8FE2-3667-44EC-97C5-FAA29297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F4CE-BE16-4A32-B336-E4D1EE0C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457D-3AD5-480E-B22C-8340DA01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E048-8DF5-43F2-82DD-7C6FC8DE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2882-F6E4-40BE-AD53-4B88562F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FA7D-333C-444C-BA95-2BBEABAA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246C-CA77-4394-A26A-7AE16354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B773-434C-4376-B6AD-AD60A297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A54C-AE07-4DAC-9788-802BF445F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BP-TN13-SS01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3-S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1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7.6782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9.9396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BP-TN13-SS02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477120" y="301788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3-S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1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7.5599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9.84969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0:05:14Z</dcterms:created>
  <dc:creator>Kaitlyn Summers</dc:creator>
  <dc:description/>
  <dc:language>en-US</dc:language>
  <cp:lastModifiedBy>Kaitlyn Summers</cp:lastModifiedBy>
  <dcterms:modified xsi:type="dcterms:W3CDTF">2010-08-20T01:11:12Z</dcterms:modified>
  <cp:revision>22</cp:revision>
  <dc:subject/>
  <dc:title>Slide 1</dc:title>
</cp:coreProperties>
</file>