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613E-8747-4481-A4D6-4D7EAB49B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42A2-163D-4F8D-9F10-79D947847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1AEA-2C51-4F46-9A73-C1123B7D2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9C3B-10A1-40F4-9902-2D02F4994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F3D8-B314-4D8F-A859-9FB9813C4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2D05-8F5D-48BC-A17B-656EDEA0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1337-DA02-4B32-8132-17255429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D1D-F531-440F-BFCD-D21802BD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8A1-512D-43C2-B95A-97EAC22C1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D37-F14D-4638-82A6-C62B26B3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D2D-6260-4098-BA66-A92821EF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273-D645-475C-98DC-1D7281F5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41C2-3792-461B-9277-24CE4AA5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1126-0A8A-4F42-BE93-DAD7C5B6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F40-9345-467E-A23E-7ABBC740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74D0-BB14-461F-BB72-5CC97D40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C3EC-62CE-40FC-A7E7-A15C4CD7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61ED-1D2F-4371-B670-5CDC08A20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P-TN13-SS03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3-S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7.4512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9.76809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BP-TN13-SS04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477120" y="301788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3-S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7.33791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9.6821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BP-TN13-SS05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477120" y="301788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3-S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7.228025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9.5989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BP-TN13-SS06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6477120" y="301788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3-S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7.114208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9.51346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8-20T23:53:01Z</dcterms:modified>
  <cp:revision>23</cp:revision>
  <dc:subject/>
  <dc:title>Slide 1</dc:title>
</cp:coreProperties>
</file>