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0D07-05C0-40C3-B7D3-35FD33919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1510-615C-4439-9DA7-F74E8D9A1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A15-1E02-42A4-80C6-CE8229D01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6CF6-EBDE-4FA7-999D-1993DAD9D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007-3522-461D-A5E0-1359E6EC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53A-FE4A-4499-AA9A-AB35C130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EA5-3E50-4147-A6E3-D85A348F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756-D1E0-4557-BF46-B7B38F22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455-C401-4398-9EE3-BF101FCC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DFF-9C03-4597-A44D-9749B16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AC3-7635-43DF-A64A-0E9FFEB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E28-5B91-4928-A990-C2BF5778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15A-DE03-430B-943A-9E53F525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26A-5E71-42BF-98F4-6390073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D50-5AF9-407A-A3EF-293F08D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3D5-4453-4C49-94BF-37D40C5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50F7-CBA9-4D4B-9C57-76034CCBA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4-SS01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4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27.473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-90.977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4-SS02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301788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4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3775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90.9532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P-TN14-SS03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77120" y="301788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4-S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7.289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90.93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1T23:42:55Z</dcterms:modified>
  <cp:revision>24</cp:revision>
  <dc:subject/>
  <dc:title>Slide 1</dc:title>
</cp:coreProperties>
</file>