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C7F1-A58A-4F10-9127-45906B07E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70D1-7B68-4090-971D-A3D4F4B6F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1DAF-4D14-4573-B3C9-74A3A815E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1E8-7657-45E8-89B4-65E0C2D9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F5B-2A91-4252-BD67-C7A95460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A86-1DA5-476B-B285-9F2D8FF3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EF9-AB50-495D-B1FA-E824139C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072-B234-400A-8969-1AB1936F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F1C-D43E-44C5-8D18-9CA1A258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230-271B-463F-86B7-4404C3E9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A80-C988-478B-9B2F-4E68DC15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6F6-A7D1-4D28-A567-95F9313E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139-7DAC-489B-857C-887E7CE1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89D-0459-46EA-8E33-88024340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3D5-E787-4BD1-AE62-736F5FA1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3BF9-2D88-41FD-86B6-98D8509CD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P-TN14-SS04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4-S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2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.117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90.8870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4-SS02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4-S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2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7.0288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90.8647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2T20:22:39Z</dcterms:modified>
  <cp:revision>27</cp:revision>
  <dc:subject/>
  <dc:title>Slide 1</dc:title>
</cp:coreProperties>
</file>